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983C-A025-4174-9D98-49ACBC24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281E-AE28-4E2D-B55F-A41F5E91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0F79-2960-462B-BF57-20D55422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83D-44DC-4352-BAF4-3551EB97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0CC9-33BE-494C-9143-926DB559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C161-BD18-4EAD-AF4F-74916F1D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EE70-C2D5-4A16-BC32-E6495679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8A4B-261F-4E13-AD72-C88E5F70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752B-A90F-4802-B367-9833B7AA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0557-314D-402F-807F-E994D1F8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F4A1-9F9C-4143-BE35-4EA7E43A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A839-A88D-4209-BEFE-285619AC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2709-ED5C-4A7C-BEB3-3E301F79E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562280" cy="5533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392720" y="907920"/>
            <a:ext cx="475128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600800" cy="6181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84720" y="1125360"/>
            <a:ext cx="485928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11:30:32Z</dcterms:created>
  <dc:creator>01690112</dc:creator>
  <dc:description/>
  <dc:language>en-US</dc:language>
  <cp:lastModifiedBy>01690112</cp:lastModifiedBy>
  <dcterms:modified xsi:type="dcterms:W3CDTF">2009-07-14T11:33:08Z</dcterms:modified>
  <cp:revision>1</cp:revision>
  <dc:subject/>
  <dc:title>Slide 1</dc:title>
</cp:coreProperties>
</file>